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AADB-D0BF-403D-892D-F76313F3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CB65-C5CB-42BD-8B3E-46662150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995-E1A5-43BF-8163-77327864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BC94-5559-4F43-A412-FA423843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8863-4995-4FD3-83AA-CE4D4CAE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2F17-64D2-45F5-A687-A505CADB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AB31-89C8-4C97-9ED7-D206340E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A8AF-CE49-476C-B53F-3C1FB8EF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6510-5C35-4251-A68C-AEDAD1CC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80B2-F023-414F-A5FD-DF3946FE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C8A-F59A-4420-867B-40B0327F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8C15-C94B-4891-A906-2301FC9F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4D58-873B-40D2-8D7D-011913A00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d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85200" y="212040"/>
            <a:ext cx="6576840" cy="6455880"/>
            <a:chOff x="1285200" y="212040"/>
            <a:chExt cx="6576840" cy="6455880"/>
          </a:xfrm>
        </p:grpSpPr>
        <p:sp>
          <p:nvSpPr>
            <p:cNvPr id="42" name="_s2069"/>
            <p:cNvSpPr/>
            <p:nvPr/>
          </p:nvSpPr>
          <p:spPr>
            <a:xfrm flipH="1" flipV="1">
              <a:off x="3259800" y="2517840"/>
              <a:ext cx="659520" cy="5234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68"/>
            <p:cNvSpPr/>
            <p:nvPr/>
          </p:nvSpPr>
          <p:spPr>
            <a:xfrm>
              <a:off x="1769040" y="1159920"/>
              <a:ext cx="1676160" cy="16761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úsqued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i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67"/>
            <p:cNvSpPr/>
            <p:nvPr/>
          </p:nvSpPr>
          <p:spPr>
            <a:xfrm flipH="1">
              <a:off x="2936880" y="3747240"/>
              <a:ext cx="819360" cy="1900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66"/>
            <p:cNvSpPr/>
            <p:nvPr/>
          </p:nvSpPr>
          <p:spPr>
            <a:xfrm>
              <a:off x="1285200" y="3288240"/>
              <a:ext cx="1676160" cy="16761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ro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i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65"/>
            <p:cNvSpPr/>
            <p:nvPr/>
          </p:nvSpPr>
          <p:spPr>
            <a:xfrm flipH="1">
              <a:off x="3845160" y="4314960"/>
              <a:ext cx="362520" cy="7578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64"/>
            <p:cNvSpPr/>
            <p:nvPr/>
          </p:nvSpPr>
          <p:spPr>
            <a:xfrm>
              <a:off x="2647800" y="4991760"/>
              <a:ext cx="1676160" cy="16761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ación 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figu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63"/>
            <p:cNvSpPr/>
            <p:nvPr/>
          </p:nvSpPr>
          <p:spPr>
            <a:xfrm>
              <a:off x="4933800" y="4314960"/>
              <a:ext cx="365400" cy="7578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62"/>
            <p:cNvSpPr/>
            <p:nvPr/>
          </p:nvSpPr>
          <p:spPr>
            <a:xfrm>
              <a:off x="4827960" y="4989240"/>
              <a:ext cx="1676160" cy="16768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r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 ci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61"/>
            <p:cNvSpPr/>
            <p:nvPr/>
          </p:nvSpPr>
          <p:spPr>
            <a:xfrm>
              <a:off x="5385600" y="3750120"/>
              <a:ext cx="819360" cy="1846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60"/>
            <p:cNvSpPr/>
            <p:nvPr/>
          </p:nvSpPr>
          <p:spPr>
            <a:xfrm>
              <a:off x="6185880" y="3283200"/>
              <a:ext cx="1676160" cy="167616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tribu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 citas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i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59"/>
            <p:cNvSpPr/>
            <p:nvPr/>
          </p:nvSpPr>
          <p:spPr>
            <a:xfrm flipV="1">
              <a:off x="5225760" y="2517840"/>
              <a:ext cx="656640" cy="5234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58"/>
            <p:cNvSpPr/>
            <p:nvPr/>
          </p:nvSpPr>
          <p:spPr>
            <a:xfrm>
              <a:off x="5699160" y="1157040"/>
              <a:ext cx="1676160" cy="1676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s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057"/>
            <p:cNvSpPr/>
            <p:nvPr/>
          </p:nvSpPr>
          <p:spPr>
            <a:xfrm flipV="1">
              <a:off x="4571280" y="1885320"/>
              <a:ext cx="0" cy="8420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056"/>
            <p:cNvSpPr/>
            <p:nvPr/>
          </p:nvSpPr>
          <p:spPr>
            <a:xfrm>
              <a:off x="3733920" y="212040"/>
              <a:ext cx="1676160" cy="16761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r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 dí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 labor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2055"/>
            <p:cNvSpPr/>
            <p:nvPr/>
          </p:nvSpPr>
          <p:spPr>
            <a:xfrm>
              <a:off x="3733920" y="2727720"/>
              <a:ext cx="1676160" cy="167616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GEN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11:16:10Z</dcterms:created>
  <dc:creator>*</dc:creator>
  <dc:description/>
  <dc:language>en-US</dc:language>
  <cp:lastModifiedBy>*</cp:lastModifiedBy>
  <dcterms:modified xsi:type="dcterms:W3CDTF">2011-03-10T19:43:08Z</dcterms:modified>
  <cp:revision>13</cp:revision>
  <dc:subject/>
  <dc:title>Diapositiva 1</dc:title>
</cp:coreProperties>
</file>