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B7C-2F02-4F09-A401-A73CC78C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A56-4966-4B62-80A8-E22261E2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9B5-5463-4FBD-B368-C9F30DC4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C40-E9A7-4314-96B6-ED7BD677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6F7-1E01-4955-8519-E2BC46D8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CFC-3FCD-43BA-91E4-0A9D13E4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216-1B97-450B-8ECC-8F7C117F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A48-B269-4881-A950-64718993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B8E-ADF0-4B8C-BD11-8CCA2E76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170-BD4F-487C-B973-16F533CD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B5E-8218-4811-A35C-F7871EBB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6C8-5CBB-4F90-8AB8-29FE98E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8B2-E38B-4012-B78C-C6C823EF0E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Diagram 7"/>
          <p:cNvGrpSpPr/>
          <p:nvPr/>
        </p:nvGrpSpPr>
        <p:grpSpPr>
          <a:xfrm>
            <a:off x="527040" y="333360"/>
            <a:ext cx="7946280" cy="6737040"/>
            <a:chOff x="527040" y="333360"/>
            <a:chExt cx="7946280" cy="6737040"/>
          </a:xfrm>
        </p:grpSpPr>
        <p:sp>
          <p:nvSpPr>
            <p:cNvPr id="42" name="_s5130"/>
            <p:cNvSpPr/>
            <p:nvPr/>
          </p:nvSpPr>
          <p:spPr>
            <a:xfrm>
              <a:off x="2047680" y="333360"/>
              <a:ext cx="4905720" cy="4709160"/>
            </a:xfrm>
            <a:prstGeom prst="pi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5131"/>
            <p:cNvSpPr/>
            <p:nvPr/>
          </p:nvSpPr>
          <p:spPr>
            <a:xfrm rot="7200000">
              <a:off x="2817360" y="1351800"/>
              <a:ext cx="4708800" cy="4905720"/>
            </a:xfrm>
            <a:prstGeom prst="pie">
              <a:avLst/>
            </a:pr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5133"/>
            <p:cNvSpPr/>
            <p:nvPr/>
          </p:nvSpPr>
          <p:spPr>
            <a:xfrm rot="14400000">
              <a:off x="1473840" y="1351440"/>
              <a:ext cx="4708800" cy="490572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5128"/>
            <p:cNvSpPr/>
            <p:nvPr/>
          </p:nvSpPr>
          <p:spPr>
            <a:xfrm>
              <a:off x="5843160" y="1195200"/>
              <a:ext cx="1968120" cy="18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808080"/>
                  </a:solidFill>
                  <a:latin typeface="Arial"/>
                </a:rPr>
                <a:t>REGISTRA CITA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5129"/>
            <p:cNvSpPr/>
            <p:nvPr/>
          </p:nvSpPr>
          <p:spPr>
            <a:xfrm>
              <a:off x="3519360" y="5068080"/>
              <a:ext cx="196776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808080"/>
                  </a:solidFill>
                  <a:latin typeface="Arial"/>
                </a:rPr>
                <a:t>REGISTRA CITA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808080"/>
                  </a:solidFill>
                  <a:latin typeface="Arial"/>
                </a:rPr>
                <a:t>ENVÍA CONCEPTO D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808080"/>
                  </a:solidFill>
                  <a:latin typeface="Arial"/>
                </a:rPr>
                <a:t>COBRO DE CONSULT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32"/>
            <p:cNvSpPr/>
            <p:nvPr/>
          </p:nvSpPr>
          <p:spPr>
            <a:xfrm>
              <a:off x="1187280" y="1197720"/>
              <a:ext cx="196812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808080"/>
                  </a:solidFill>
                  <a:latin typeface="Arial"/>
                </a:rPr>
                <a:t>COBRA CONSULT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808080"/>
                  </a:solidFill>
                  <a:latin typeface="Arial"/>
                </a:rPr>
                <a:t>VERIFICA PAGO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2520720" y="2005920"/>
              <a:ext cx="3686040" cy="24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Interacción de la agenda con los demás módul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5"/>
          <p:cNvSpPr/>
          <p:nvPr/>
        </p:nvSpPr>
        <p:spPr>
          <a:xfrm>
            <a:off x="3564000" y="105264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608472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1547640" y="49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1:16:10Z</dcterms:created>
  <dc:creator>*</dc:creator>
  <dc:description/>
  <dc:language>en-US</dc:language>
  <cp:lastModifiedBy>JBS</cp:lastModifiedBy>
  <dcterms:modified xsi:type="dcterms:W3CDTF">2011-07-19T11:23:43Z</dcterms:modified>
  <cp:revision>16</cp:revision>
  <dc:subject/>
  <dc:title>Diapositiva 1</dc:title>
</cp:coreProperties>
</file>