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EFE-7D60-46A1-92EC-94C5B19F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034-6169-4BDF-94BE-4F61B8C0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1CF-87DA-4077-BF19-BD4A8E58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6DE-EB35-42DA-A138-DFDB5228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43F-3B4A-4612-833F-5A5DA290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C71-0C8F-4E70-A46F-693C45B5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26A-780C-4E5B-92DD-328D4FA6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5B7-B2DF-4B01-8C8F-A846C71E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C75-F25E-4174-8823-C4BC9D2F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3C4-9367-43A6-9319-BA53CCE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8B0-72ED-4B8F-839F-D6A4F92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A79-0D0C-4E4C-B103-312CC555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657-4E41-4F76-9FA6-AE6C9EB0351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RL02_CONT_R03_COMUNICACION.JPG"/>
          <p:cNvPicPr/>
          <p:nvPr/>
        </p:nvPicPr>
        <p:blipFill>
          <a:blip r:embed="rId1"/>
          <a:stretch/>
        </p:blipFill>
        <p:spPr>
          <a:xfrm>
            <a:off x="179280" y="142920"/>
            <a:ext cx="8821800" cy="444672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285840" y="471492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odelo que representa la fuente de la información, el codificador que envía el mensaje a través del canal de comunicación, que puede ser interrumpido o distorsionado por el ruido (representado en el rayo que cae) y que llega a un decodificador y de este al receptor el cual podría emitir a su vez una resp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11:50Z</dcterms:created>
  <dc:creator>JBS</dc:creator>
  <dc:description/>
  <dc:language>en-US</dc:language>
  <cp:lastModifiedBy>JBS</cp:lastModifiedBy>
  <dcterms:modified xsi:type="dcterms:W3CDTF">2011-07-19T10:31:06Z</dcterms:modified>
  <cp:revision>1</cp:revision>
  <dc:subject/>
  <dc:title>Diapositiva 1</dc:title>
</cp:coreProperties>
</file>