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238-4FB0-49F3-BE79-BA39E7D4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B20-656A-4316-9FB3-9E1A1806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4C5-8025-45B0-BBC9-69BDBC1C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C57-D108-4B4D-B98C-D210BA0B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88A-9968-4ADD-AA76-770ED94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CFF-0CEB-453B-9136-15A135A7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CE9-2775-4CE6-8450-4E70E65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5E7-E6D8-4060-883A-F24D7E4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B0A-220F-4C1A-9C00-FE51490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39E-6EC7-4FF1-B514-5134666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9DE-A55E-4ADE-B804-893EC05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E66-B0B9-4B61-A0EF-845326E6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D76-A0D9-4028-AECA-27C4681B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280360" cy="316872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Historia clín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720" y="3139920"/>
            <a:ext cx="6659640" cy="3168720"/>
          </a:xfrm>
          <a:prstGeom prst="rect">
            <a:avLst/>
          </a:prstGeom>
          <a:solidFill>
            <a:srgbClr val="ffcc00">
              <a:alpha val="76000"/>
            </a:srgbClr>
          </a:solidFill>
          <a:ln w="8568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ivacidad y confidenc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pectos leg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44000" y="4076640"/>
            <a:ext cx="144360" cy="2232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076640"/>
            <a:ext cx="144720" cy="2232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1600" y="247320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adi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61620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o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475920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473200"/>
            <a:ext cx="38862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lteraciones en esmal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dentina, cemento y h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616200"/>
            <a:ext cx="38862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lteraciones en tej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l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4759200"/>
            <a:ext cx="38862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Alteraciones de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sistemas del organismo,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epercuten en 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60280"/>
            <a:ext cx="8207280" cy="151308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ploraciones complement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064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conoce el derecho del paciente al respeto a s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ivacid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anto de los datos como de las muestras biológicas que permitan su identificación personal y de su enferm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o el personal que trata con datos de los pacientes (ficheros de cualquier tipo) o que mantiene relación laboral con ellos, está obligado mantener el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r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inform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12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vacidad y confidenci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antenimiento de la confidencialidad y privacidad de los pacientes implica primeramente a la historia clínica, que debe esta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ustodia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forma adecuada, permaneciendo accesible únicamente al personal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documentación debidamente encarpetada pasa al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su correspondiente custo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912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ch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2276640"/>
            <a:ext cx="82184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 14/1986,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Ley General de San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l Decreto 63/1995, de 20 de enero, sobre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Ordenación de prestaciones sanitarias del Sistema Nacional de Salu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912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pectos leg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75640" cy="86364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istoria clín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844280"/>
            <a:ext cx="8424720" cy="4753080"/>
          </a:xfrm>
          <a:prstGeom prst="rect">
            <a:avLst/>
          </a:prstGeom>
          <a:solidFill>
            <a:srgbClr val="ffcc00">
              <a:alpha val="76000"/>
            </a:srgbClr>
          </a:solidFill>
          <a:ln w="8568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ocu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vacidad y confidenci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ch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spectos le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HC es un documento médico legal, generado en el contacto entre el equipo de salud y los usua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emás de los datos clínicos que tengan relación con la situación actual del paciente, incorpora los datos de sus antecedentes personales y familiares, sus habitos, y todo aquello vinculado con su salud biopsicosocial. También incluye el proceso evolutivo, tratamiento y recupe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mbién incluye los juicios, documentos, procedimientos, informaciones y consentimiento inform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cencia e investi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pidemi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lidad: Al ser un registro de la actuación médico-sanitaria prestada al paciente, su estudio y valoración permite establecer el nivel de calidad asistencial pres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stión y administración: Permite el control y gestión de los servicios médicos pr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édico-legal: Es muy impor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181728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pel escri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s la forma tradicional. Los inconvenientes son la legibilidad de la caligrafía, el volumen de espacio que ocupa, su deterioro y su destrucción programada para recuperar espacio en los archivos d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d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tograf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udios radi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porte informá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n los nuevos centros sanitarios las historias clínicas están informatizadas, mediante complejos programas informáticos de gestión sanitaria, que incluye una historia clínica con firma dig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porte fí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amnes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ploración física o examen físic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ploraciones complementaria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ósticos: presuntivos, juicios de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cu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1000" y="3519360"/>
            <a:ext cx="2133360" cy="22860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286000"/>
              <a:gd name="textAreaBottom" fmla="*/ 2181960 h 2286000"/>
            </a:gdLst>
            <a:ahLst/>
            <a:rect l="textAreaLeft" t="textAreaTop" r="textAreaRight" b="textAreaBottom"/>
            <a:pathLst>
              <a:path w="21600" h="23145">
                <a:moveTo>
                  <a:pt x="3600" y="0"/>
                </a:moveTo>
                <a:arcTo wR="3600" hR="3600" stAng="16200000" swAng="-5400000"/>
                <a:lnTo>
                  <a:pt x="0" y="19545"/>
                </a:lnTo>
                <a:arcTo wR="3600" hR="3600" stAng="10800000" swAng="-5400000"/>
                <a:lnTo>
                  <a:pt x="18000" y="23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Datos de f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Fecha na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Lugar na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Prof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1844640"/>
            <a:ext cx="2209680" cy="1600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Motivo de 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¿Qué le ocur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¿Desde cuán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¿A qué lo atribuy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2492280"/>
            <a:ext cx="2133360" cy="25909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590920"/>
              <a:gd name="textAreaBottom" fmla="*/ 2486880 h 2590920"/>
            </a:gdLst>
            <a:ahLst/>
            <a:rect l="textAreaLeft" t="textAreaTop" r="textAreaRight" b="textAreaBottom"/>
            <a:pathLst>
              <a:path w="21600" h="26232">
                <a:moveTo>
                  <a:pt x="3600" y="0"/>
                </a:moveTo>
                <a:arcTo wR="3600" hR="3600" stAng="16200000" swAng="-5400000"/>
                <a:lnTo>
                  <a:pt x="0" y="22632"/>
                </a:lnTo>
                <a:arcTo wR="3600" hR="3600" stAng="10800000" swAng="-5400000"/>
                <a:lnTo>
                  <a:pt x="18000" y="26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Antece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Cualqu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enfermedad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333399"/>
                </a:solidFill>
                <a:latin typeface="Comic Sans MS"/>
              </a:rPr>
              <a:t>o pa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797360"/>
            <a:ext cx="2946600" cy="1656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Comic Sans MS"/>
              </a:rPr>
              <a:t>Alergi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Comic Sans MS"/>
              </a:rPr>
              <a:t>medic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Comic Sans MS"/>
              </a:rPr>
              <a:t>Fármaco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Comic Sans MS"/>
              </a:rPr>
              <a:t>toma act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am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047600">
            <a:off x="1189080" y="2320560"/>
            <a:ext cx="1511280" cy="5032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441259"/>
                <a:lnTo>
                  <a:pt x="19986" y="8259"/>
                </a:lnTo>
                <a:lnTo>
                  <a:pt x="17280" y="21600"/>
                </a:lnTo>
                <a:lnTo>
                  <a:pt x="11346" y="8259"/>
                </a:lnTo>
                <a:lnTo>
                  <a:pt x="13506" y="8259"/>
                </a:lnTo>
                <a:arcTo wR="7560" hR="21600" stAng="-3958741" swAng="-108382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61800">
            <a:off x="5436720" y="1773000"/>
            <a:ext cx="1511280" cy="5032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441259"/>
                <a:lnTo>
                  <a:pt x="19986" y="8259"/>
                </a:lnTo>
                <a:lnTo>
                  <a:pt x="17280" y="21600"/>
                </a:lnTo>
                <a:lnTo>
                  <a:pt x="11346" y="8259"/>
                </a:lnTo>
                <a:lnTo>
                  <a:pt x="13506" y="8259"/>
                </a:lnTo>
                <a:arcTo wR="7560" hR="21600" stAng="-3958741" swAng="-108382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529600">
            <a:off x="6011640" y="5589360"/>
            <a:ext cx="1511280" cy="5032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441259"/>
                <a:lnTo>
                  <a:pt x="19986" y="8259"/>
                </a:lnTo>
                <a:lnTo>
                  <a:pt x="17280" y="21600"/>
                </a:lnTo>
                <a:lnTo>
                  <a:pt x="11346" y="8259"/>
                </a:lnTo>
                <a:lnTo>
                  <a:pt x="13506" y="8259"/>
                </a:lnTo>
                <a:arcTo wR="7560" hR="21600" stAng="-3958741" swAng="-108382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9680" y="2705040"/>
            <a:ext cx="2649600" cy="12286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xpl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35680"/>
            <a:ext cx="1523880" cy="914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tra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143000"/>
            <a:ext cx="1524240" cy="990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xtra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535120"/>
            <a:ext cx="172908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uscul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404640"/>
            <a:ext cx="155556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sp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1455840"/>
            <a:ext cx="155556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al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191120"/>
            <a:ext cx="174636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cc33"/>
                </a:solidFill>
                <a:latin typeface="Arial"/>
              </a:rPr>
              <a:t>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cc33"/>
                </a:solidFill>
                <a:latin typeface="Arial"/>
              </a:rPr>
              <a:t>bla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5086440"/>
            <a:ext cx="1746360" cy="5331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cc33"/>
                </a:solidFill>
                <a:latin typeface="Arial"/>
              </a:rPr>
              <a:t>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cc33"/>
                </a:solidFill>
                <a:latin typeface="Arial"/>
              </a:rPr>
              <a:t>periodo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5848200"/>
            <a:ext cx="1746360" cy="533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cc33"/>
                </a:solidFill>
                <a:latin typeface="Arial"/>
              </a:rPr>
              <a:t>D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7" idx="1"/>
          </p:cNvCxnSpPr>
          <p:nvPr/>
        </p:nvCxnSpPr>
        <p:spPr>
          <a:xfrm rot="10800000">
            <a:off x="5333400" y="670680"/>
            <a:ext cx="30600" cy="2131200"/>
          </a:xfrm>
          <a:prstGeom prst="bentConnector3">
            <a:avLst>
              <a:gd name="adj1" fmla="val 857142"/>
            </a:avLst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1"/>
            <a:endCxn id="68" idx="1"/>
          </p:cNvCxnSpPr>
          <p:nvPr/>
        </p:nvCxnSpPr>
        <p:spPr>
          <a:xfrm rot="10800000">
            <a:off x="5333400" y="1721880"/>
            <a:ext cx="30600" cy="1080000"/>
          </a:xfrm>
          <a:prstGeom prst="bentConnector3">
            <a:avLst>
              <a:gd name="adj1" fmla="val 857142"/>
            </a:avLst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16760" y="26820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975"/>
                </a:lnTo>
                <a:cubicBezTo>
                  <a:pt x="10800" y="7875"/>
                  <a:pt x="5400" y="8775"/>
                  <a:pt x="0" y="8775"/>
                </a:cubicBezTo>
                <a:cubicBezTo>
                  <a:pt x="5400" y="8775"/>
                  <a:pt x="10800" y="9675"/>
                  <a:pt x="10800" y="105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7560" y="268200"/>
            <a:ext cx="153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imet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mbi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bult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75440" y="1484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denopatías cervi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 flipV="1">
            <a:off x="4572000" y="4508280"/>
            <a:ext cx="2286720" cy="876960"/>
          </a:xfrm>
          <a:prstGeom prst="bentConnector3">
            <a:avLst>
              <a:gd name="adj1" fmla="val 49992"/>
            </a:avLst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V="1">
            <a:off x="4572000" y="5229000"/>
            <a:ext cx="2286720" cy="144720"/>
          </a:xfrm>
          <a:prstGeom prst="bentConnector3">
            <a:avLst>
              <a:gd name="adj1" fmla="val 49992"/>
            </a:avLst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>
            <a:off x="4572000" y="5373360"/>
            <a:ext cx="2286720" cy="754920"/>
          </a:xfrm>
          <a:prstGeom prst="bentConnector3">
            <a:avLst>
              <a:gd name="adj1" fmla="val 49992"/>
            </a:avLst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3" idx="0"/>
            <a:endCxn id="65" idx="1"/>
          </p:cNvCxnSpPr>
          <p:nvPr/>
        </p:nvCxnSpPr>
        <p:spPr>
          <a:xfrm flipH="1" flipV="1" rot="5400000">
            <a:off x="1896120" y="1476720"/>
            <a:ext cx="1067400" cy="1389600"/>
          </a:xfrm>
          <a:prstGeom prst="bentConnector2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3" idx="2"/>
            <a:endCxn id="64" idx="1"/>
          </p:cNvCxnSpPr>
          <p:nvPr/>
        </p:nvCxnSpPr>
        <p:spPr>
          <a:xfrm flipH="1" rot="16200000">
            <a:off x="1611000" y="4056480"/>
            <a:ext cx="1559880" cy="1313640"/>
          </a:xfrm>
          <a:prstGeom prst="bentConnector2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147080" y="2492280"/>
            <a:ext cx="14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TM: ruidos arti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1700280"/>
            <a:ext cx="43344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177336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Es una </a:t>
            </a:r>
            <a:r>
              <a:rPr b="0" lang="es-ES_tradnl" sz="2000" spc="-1" strike="noStrike">
                <a:solidFill>
                  <a:srgbClr val="3399ff"/>
                </a:solidFill>
                <a:latin typeface="Arial"/>
              </a:rPr>
              <a:t>representación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anatómica o esquemática de los dientes, organizados por cuadrantes, y sobre los que se señalan las </a:t>
            </a:r>
            <a:r>
              <a:rPr b="0" lang="es-ES_tradnl" sz="2000" spc="-1" strike="noStrike">
                <a:solidFill>
                  <a:srgbClr val="3399ff"/>
                </a:solidFill>
                <a:latin typeface="Arial"/>
              </a:rPr>
              <a:t>patologías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y/o </a:t>
            </a:r>
            <a:r>
              <a:rPr b="0" lang="es-ES_tradnl" sz="2000" spc="-1" strike="noStrike">
                <a:solidFill>
                  <a:srgbClr val="3399ff"/>
                </a:solidFill>
                <a:latin typeface="Arial"/>
              </a:rPr>
              <a:t>tratamientos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de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0280" y="3355920"/>
            <a:ext cx="8002080" cy="2745360"/>
            <a:chOff x="530280" y="3355920"/>
            <a:chExt cx="8002080" cy="2745360"/>
          </a:xfrm>
        </p:grpSpPr>
        <p:grpSp>
          <p:nvGrpSpPr>
            <p:cNvPr id="86" name=""/>
            <p:cNvGrpSpPr/>
            <p:nvPr/>
          </p:nvGrpSpPr>
          <p:grpSpPr>
            <a:xfrm>
              <a:off x="4646520" y="4117680"/>
              <a:ext cx="3580920" cy="381240"/>
              <a:chOff x="4646520" y="4117680"/>
              <a:chExt cx="3580920" cy="3812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017760" y="4117680"/>
                <a:ext cx="380880" cy="381240"/>
                <a:chOff x="6017760" y="4117680"/>
                <a:chExt cx="380880" cy="381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017760" y="4117680"/>
                  <a:ext cx="38088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93720" y="4194000"/>
                  <a:ext cx="22824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474960" y="4117680"/>
                <a:ext cx="380880" cy="381240"/>
                <a:chOff x="6474960" y="4117680"/>
                <a:chExt cx="380880" cy="381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74960" y="4117680"/>
                  <a:ext cx="38088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550920" y="4194000"/>
                  <a:ext cx="22824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932160" y="4117680"/>
                <a:ext cx="380880" cy="381240"/>
                <a:chOff x="6932160" y="4117680"/>
                <a:chExt cx="380880" cy="38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32160" y="4117680"/>
                  <a:ext cx="38088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08120" y="4194000"/>
                  <a:ext cx="22824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389360" y="4117680"/>
                <a:ext cx="380880" cy="381240"/>
                <a:chOff x="7389360" y="4117680"/>
                <a:chExt cx="380880" cy="381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389360" y="4117680"/>
                  <a:ext cx="38088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465320" y="4194000"/>
                  <a:ext cx="22824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846560" y="4117680"/>
                <a:ext cx="380880" cy="381240"/>
                <a:chOff x="7846560" y="4117680"/>
                <a:chExt cx="380880" cy="381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846560" y="4117680"/>
                  <a:ext cx="38088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922520" y="4194000"/>
                  <a:ext cx="22824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4646520" y="4117680"/>
                <a:ext cx="38088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03360" y="4117680"/>
                <a:ext cx="38088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60560" y="4117680"/>
                <a:ext cx="38088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646520" y="4879800"/>
              <a:ext cx="3580920" cy="380880"/>
              <a:chOff x="4646520" y="4879800"/>
              <a:chExt cx="3580920" cy="380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017760" y="4879800"/>
                <a:ext cx="380880" cy="380880"/>
                <a:chOff x="6017760" y="4879800"/>
                <a:chExt cx="3808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017760" y="4879800"/>
                  <a:ext cx="38088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093720" y="4955760"/>
                  <a:ext cx="22824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474960" y="4879800"/>
                <a:ext cx="380880" cy="380880"/>
                <a:chOff x="6474960" y="4879800"/>
                <a:chExt cx="3808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474960" y="4879800"/>
                  <a:ext cx="38088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50920" y="4955760"/>
                  <a:ext cx="22824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932160" y="4879800"/>
                <a:ext cx="380880" cy="380880"/>
                <a:chOff x="6932160" y="4879800"/>
                <a:chExt cx="380880" cy="3808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932160" y="4879800"/>
                  <a:ext cx="38088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008120" y="4955760"/>
                  <a:ext cx="22824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389360" y="4879800"/>
                <a:ext cx="380880" cy="380880"/>
                <a:chOff x="7389360" y="4879800"/>
                <a:chExt cx="380880" cy="380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389360" y="4879800"/>
                  <a:ext cx="38088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465320" y="4955760"/>
                  <a:ext cx="22824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846560" y="4879800"/>
                <a:ext cx="380880" cy="380880"/>
                <a:chOff x="7846560" y="4879800"/>
                <a:chExt cx="380880" cy="380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46560" y="4879800"/>
                  <a:ext cx="38088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922520" y="4955760"/>
                  <a:ext cx="22824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4646520" y="4879800"/>
                <a:ext cx="38088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03360" y="4879800"/>
                <a:ext cx="38088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60560" y="4879800"/>
                <a:ext cx="38088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912240" y="4117680"/>
              <a:ext cx="3581640" cy="381240"/>
              <a:chOff x="912240" y="4117680"/>
              <a:chExt cx="3581640" cy="3812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741040" y="4117680"/>
                <a:ext cx="381240" cy="381240"/>
                <a:chOff x="2741040" y="4117680"/>
                <a:chExt cx="381240" cy="38124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2740680" y="4117680"/>
                  <a:ext cx="38124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2817000" y="41940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283840" y="4117680"/>
                <a:ext cx="381240" cy="381240"/>
                <a:chOff x="2283840" y="4117680"/>
                <a:chExt cx="381240" cy="381240"/>
              </a:xfrm>
            </p:grpSpPr>
            <p:sp>
              <p:nvSpPr>
                <p:cNvPr id="129" name=""/>
                <p:cNvSpPr/>
                <p:nvPr/>
              </p:nvSpPr>
              <p:spPr>
                <a:xfrm flipH="1">
                  <a:off x="2283480" y="4117680"/>
                  <a:ext cx="38124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2359800" y="41940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826640" y="4117680"/>
                <a:ext cx="381240" cy="381240"/>
                <a:chOff x="1826640" y="4117680"/>
                <a:chExt cx="381240" cy="38124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1826280" y="4117680"/>
                  <a:ext cx="38124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1902600" y="41940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69440" y="4117680"/>
                <a:ext cx="381240" cy="381240"/>
                <a:chOff x="1369440" y="4117680"/>
                <a:chExt cx="381240" cy="38124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1369080" y="4117680"/>
                  <a:ext cx="38124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445400" y="41940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912240" y="4117680"/>
                <a:ext cx="381240" cy="381240"/>
                <a:chOff x="912240" y="4117680"/>
                <a:chExt cx="381240" cy="381240"/>
              </a:xfrm>
            </p:grpSpPr>
            <p:sp>
              <p:nvSpPr>
                <p:cNvPr id="138" name=""/>
                <p:cNvSpPr/>
                <p:nvPr/>
              </p:nvSpPr>
              <p:spPr>
                <a:xfrm flipH="1">
                  <a:off x="911880" y="4117680"/>
                  <a:ext cx="381240" cy="38124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988200" y="41940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>
                <a:off x="4112280" y="4117680"/>
                <a:ext cx="38124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655080" y="4117680"/>
                <a:ext cx="38124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97880" y="4117680"/>
                <a:ext cx="381240" cy="38124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912240" y="4879800"/>
              <a:ext cx="3581640" cy="380880"/>
              <a:chOff x="912240" y="4879800"/>
              <a:chExt cx="3581640" cy="3808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741040" y="4879800"/>
                <a:ext cx="381240" cy="380880"/>
                <a:chOff x="2741040" y="4879800"/>
                <a:chExt cx="381240" cy="38088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2740680" y="487980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817000" y="4955760"/>
                  <a:ext cx="22860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283840" y="4879800"/>
                <a:ext cx="381240" cy="380880"/>
                <a:chOff x="2283840" y="4879800"/>
                <a:chExt cx="381240" cy="380880"/>
              </a:xfrm>
            </p:grpSpPr>
            <p:sp>
              <p:nvSpPr>
                <p:cNvPr id="148" name=""/>
                <p:cNvSpPr/>
                <p:nvPr/>
              </p:nvSpPr>
              <p:spPr>
                <a:xfrm flipH="1">
                  <a:off x="2283480" y="487980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359800" y="4955760"/>
                  <a:ext cx="22860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826640" y="4879800"/>
                <a:ext cx="381240" cy="380880"/>
                <a:chOff x="1826640" y="4879800"/>
                <a:chExt cx="381240" cy="38088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1826280" y="487980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1902600" y="4955760"/>
                  <a:ext cx="22860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69440" y="4879800"/>
                <a:ext cx="381240" cy="380880"/>
                <a:chOff x="1369440" y="4879800"/>
                <a:chExt cx="381240" cy="38088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1369080" y="487980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1445400" y="4955760"/>
                  <a:ext cx="22860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912240" y="4879800"/>
                <a:ext cx="381240" cy="380880"/>
                <a:chOff x="912240" y="4879800"/>
                <a:chExt cx="381240" cy="380880"/>
              </a:xfrm>
            </p:grpSpPr>
            <p:sp>
              <p:nvSpPr>
                <p:cNvPr id="157" name=""/>
                <p:cNvSpPr/>
                <p:nvPr/>
              </p:nvSpPr>
              <p:spPr>
                <a:xfrm flipH="1">
                  <a:off x="911880" y="487980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988200" y="4955760"/>
                  <a:ext cx="228600" cy="22824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 flipH="1">
                <a:off x="4112280" y="4879800"/>
                <a:ext cx="38124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655080" y="4879800"/>
                <a:ext cx="38124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197880" y="4879800"/>
                <a:ext cx="381240" cy="380880"/>
              </a:xfrm>
              <a:prstGeom prst="flowChartSummingJunction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570200" y="3736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6640" y="46512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14440" y="3736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6520" y="373680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040" y="3736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440" y="5337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7960" y="5337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48360" y="3736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48360" y="5337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4040" y="5337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73760" y="33559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estib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73760" y="579420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estib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31760" y="4498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ing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31360" y="4498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ing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4203000" y="453888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es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360360" y="45680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i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8055360" y="45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i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ccff"/>
          </a:solidFill>
          <a:ln w="130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Odont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48:42Z</dcterms:created>
  <dc:creator>*</dc:creator>
  <dc:description/>
  <dc:language>en-US</dc:language>
  <cp:lastModifiedBy>*</cp:lastModifiedBy>
  <dcterms:modified xsi:type="dcterms:W3CDTF">2011-05-21T08:49:23Z</dcterms:modified>
  <cp:revision>21</cp:revision>
  <dc:subject/>
  <dc:title>Historia clínica </dc:title>
</cp:coreProperties>
</file>