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6A8EB4-ADDC-40F9-B866-54A450018A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12AC6E-2746-4321-B0C7-CF5C5F4F73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6353BB-1E1E-46A9-ACAB-55EBC78ECF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1A4403-B4CC-4E5C-93EB-DE3EB38534B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F0096E-1B58-4226-A91C-933DE570D99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2F669D-7EAA-4DD3-A928-9AF791EB43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D72A3D-DE26-4463-8FF1-18534ED9EC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7C3E1E-747F-472F-8B9C-54B4AA00FC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E2D34-743D-4E7C-BC6D-426397BB4C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B9F27C-68A4-45EE-867F-9AB0C32B09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EB857B-16E8-4C30-BAF6-E125C07260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B8C9E2-D68E-4DAA-AD8C-0BEC26A382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s-ES" sz="1800" spc="-1" strike="noStrike">
                <a:solidFill>
                  <a:srgbClr val="000000"/>
                </a:solidFill>
                <a:latin typeface="Arial"/>
                <a:ea typeface="Arial Unicode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05201DE-0F9A-4C10-968B-5C3361C357FE}" type="slidenum">
              <a:rPr b="0" lang="es-E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9280" y="333360"/>
            <a:ext cx="6840720" cy="6120000"/>
          </a:xfrm>
          <a:prstGeom prst="rect">
            <a:avLst/>
          </a:prstGeom>
          <a:solidFill>
            <a:srgbClr val="ffff99">
              <a:alpha val="58000"/>
            </a:srgbClr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84d1"/>
                </a:solidFill>
                <a:latin typeface="Helvetica57-Condensed"/>
              </a:rPr>
              <a:t>PROTEGER es:</a:t>
            </a:r>
            <a:r>
              <a:rPr b="0" lang="es-ES" sz="2000" spc="-1" strike="noStrike">
                <a:solidFill>
                  <a:srgbClr val="0084d1"/>
                </a:solidFill>
                <a:latin typeface="Helvetica57-Condensed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15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84d1"/>
                </a:solidFill>
                <a:latin typeface="Helvetica57-Condensed"/>
              </a:rPr>
              <a:t> </a:t>
            </a:r>
            <a:r>
              <a:rPr b="0" lang="es-ES" sz="1800" spc="-1" strike="noStrike">
                <a:solidFill>
                  <a:srgbClr val="0084d1"/>
                </a:solidFill>
                <a:latin typeface="Helvetica57-Condensed"/>
              </a:rPr>
              <a:t>Comprobar la existencia de riesgos en torno al acciden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15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84d1"/>
                </a:solidFill>
                <a:latin typeface="Helvetica57-Condensed"/>
              </a:rPr>
              <a:t> </a:t>
            </a:r>
            <a:r>
              <a:rPr b="0" lang="es-ES" sz="1800" spc="-1" strike="noStrike">
                <a:solidFill>
                  <a:srgbClr val="0084d1"/>
                </a:solidFill>
                <a:latin typeface="Helvetica57-Condensed"/>
              </a:rPr>
              <a:t>Realizar las acciones que permitan mantener fuera de riesg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84d1"/>
                </a:solidFill>
                <a:latin typeface="Helvetica57-Condensed"/>
              </a:rPr>
              <a:t>	</a:t>
            </a:r>
            <a:r>
              <a:rPr b="0" lang="es-ES" sz="1800" spc="-1" strike="noStrike">
                <a:solidFill>
                  <a:srgbClr val="0084d1"/>
                </a:solidFill>
                <a:latin typeface="Helvetica57-Condensed"/>
              </a:rPr>
              <a:t>	</a:t>
            </a:r>
            <a:r>
              <a:rPr b="0" lang="es-ES" sz="1800" spc="-1" strike="noStrike">
                <a:solidFill>
                  <a:srgbClr val="0084d1"/>
                </a:solidFill>
                <a:latin typeface="Helvetica57-Condensed"/>
              </a:rPr>
              <a:t>- Al accidenta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84d1"/>
                </a:solidFill>
                <a:latin typeface="Helvetica57-Condensed"/>
              </a:rPr>
              <a:t>	</a:t>
            </a:r>
            <a:r>
              <a:rPr b="0" lang="es-ES" sz="1800" spc="-1" strike="noStrike">
                <a:solidFill>
                  <a:srgbClr val="0084d1"/>
                </a:solidFill>
                <a:latin typeface="Helvetica57-Condensed"/>
              </a:rPr>
              <a:t>	</a:t>
            </a:r>
            <a:r>
              <a:rPr b="0" lang="es-ES" sz="1800" spc="-1" strike="noStrike">
                <a:solidFill>
                  <a:srgbClr val="0084d1"/>
                </a:solidFill>
                <a:latin typeface="Helvetica57-Condensed"/>
              </a:rPr>
              <a:t>- A las personas que ayuda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84d1"/>
                </a:solidFill>
                <a:latin typeface="Helvetica57-Condensed"/>
              </a:rPr>
              <a:t>AVISAR 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15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84d1"/>
                </a:solidFill>
                <a:latin typeface="Helvetica57-Condensed"/>
              </a:rPr>
              <a:t> </a:t>
            </a:r>
            <a:r>
              <a:rPr b="0" lang="es-ES" sz="1800" spc="-1" strike="noStrike">
                <a:solidFill>
                  <a:srgbClr val="0084d1"/>
                </a:solidFill>
                <a:latin typeface="Helvetica57-Condensed"/>
              </a:rPr>
              <a:t>Avisar a los servicios sanitarios lo más rápidamente posi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15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84d1"/>
                </a:solidFill>
                <a:latin typeface="Helvetica57-Condensed"/>
              </a:rPr>
              <a:t> </a:t>
            </a:r>
            <a:r>
              <a:rPr b="0" lang="es-ES" sz="1800" spc="-1" strike="noStrike">
                <a:solidFill>
                  <a:srgbClr val="0084d1"/>
                </a:solidFill>
                <a:latin typeface="Helvetica57-Condensed"/>
              </a:rPr>
              <a:t>Hacer una composición rápida del lugar para dar la mayor cantidad de datos posi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15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84d1"/>
                </a:solidFill>
                <a:latin typeface="Helvetica57-Condensed"/>
              </a:rPr>
              <a:t> </a:t>
            </a:r>
            <a:r>
              <a:rPr b="0" lang="es-ES" sz="1800" spc="-1" strike="noStrike">
                <a:solidFill>
                  <a:srgbClr val="0084d1"/>
                </a:solidFill>
                <a:latin typeface="Helvetica57-Condensed"/>
              </a:rPr>
              <a:t>No dejar sólo al accidentado a no ser que sea absolutamente necesari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84d1"/>
                </a:solidFill>
                <a:latin typeface="Helvetica57-Condensed"/>
              </a:rPr>
              <a:t>SOCORRER:</a:t>
            </a:r>
            <a:r>
              <a:rPr b="0" lang="es-ES" sz="2000" spc="-1" strike="noStrike">
                <a:solidFill>
                  <a:srgbClr val="0084d1"/>
                </a:solidFill>
                <a:latin typeface="Helvetica57-Condensed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15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84d1"/>
                </a:solidFill>
                <a:latin typeface="Helvetica57-Condensed"/>
              </a:rPr>
              <a:t> </a:t>
            </a:r>
            <a:r>
              <a:rPr b="0" lang="es-ES" sz="1800" spc="-1" strike="noStrike">
                <a:solidFill>
                  <a:srgbClr val="0084d1"/>
                </a:solidFill>
                <a:latin typeface="Helvetica57-Condensed"/>
              </a:rPr>
              <a:t>Seguir unas pautas básicas para conservar la vida del accidentado y no empeorar su esta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236000" y="836640"/>
            <a:ext cx="1439640" cy="1366920"/>
          </a:xfrm>
          <a:prstGeom prst="ellipse">
            <a:avLst/>
          </a:prstGeom>
          <a:solidFill>
            <a:srgbClr val="0000ff">
              <a:alpha val="53000"/>
            </a:srgbClr>
          </a:solidFill>
          <a:ln w="60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9600" spc="-1" strike="noStrike">
                <a:solidFill>
                  <a:srgbClr val="ffffff"/>
                </a:solidFill>
                <a:latin typeface="Helvetica-CondensedBlack"/>
              </a:rPr>
              <a:t>P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7236000" y="2709720"/>
            <a:ext cx="1439640" cy="1366920"/>
          </a:xfrm>
          <a:prstGeom prst="ellipse">
            <a:avLst/>
          </a:prstGeom>
          <a:solidFill>
            <a:srgbClr val="0000ff">
              <a:alpha val="53000"/>
            </a:srgbClr>
          </a:solidFill>
          <a:ln w="60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9600" spc="-1" strike="noStrike">
                <a:solidFill>
                  <a:srgbClr val="ffffff"/>
                </a:solidFill>
                <a:latin typeface="Helvetica-CondensedBlack"/>
              </a:rPr>
              <a:t>A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308720" y="4438800"/>
            <a:ext cx="1440000" cy="1366560"/>
          </a:xfrm>
          <a:prstGeom prst="ellipse">
            <a:avLst/>
          </a:prstGeom>
          <a:solidFill>
            <a:srgbClr val="0000ff">
              <a:alpha val="53000"/>
            </a:srgbClr>
          </a:solidFill>
          <a:ln w="60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9600" spc="-1" strike="noStrike">
                <a:solidFill>
                  <a:srgbClr val="ffffff"/>
                </a:solidFill>
                <a:latin typeface="Helvetica-CondensedBlack"/>
              </a:rPr>
              <a:t>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3T18:17:45Z</dcterms:created>
  <dc:creator>admi</dc:creator>
  <dc:description/>
  <dc:language>en-US</dc:language>
  <cp:lastModifiedBy>JBS</cp:lastModifiedBy>
  <dcterms:modified xsi:type="dcterms:W3CDTF">2012-03-10T19:24:23Z</dcterms:modified>
  <cp:revision>6</cp:revision>
  <dc:subject/>
  <dc:title>Diapositiva 1</dc:title>
</cp:coreProperties>
</file>