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23E1-ABE3-4C26-8F5C-FCEC776B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A14B-6D85-4C02-A046-65E18557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24CA-C74A-45B3-AECE-1876598B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7E2D-A71B-4849-B4B4-30FA2204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6FEA-9CC3-434B-9F89-D44B30A7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FE39-9703-4583-9C96-25A17A90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60D9-C678-41C0-9362-8D1CA032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E0AA-60ED-4CC6-8E74-6A526318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448C-F9B2-4095-8CED-0BFFA885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6C4B-A800-44EE-9718-E2538E1C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F0CE-D42E-4BA2-90C1-0522887B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FE2A-19F2-41CD-AA93-7D00BEB2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8A65-8DBB-4693-B3EA-67617B3A2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58160" y="477720"/>
            <a:ext cx="7849800" cy="6243840"/>
            <a:chOff x="758160" y="477720"/>
            <a:chExt cx="7849800" cy="6243840"/>
          </a:xfrm>
        </p:grpSpPr>
        <p:sp>
          <p:nvSpPr>
            <p:cNvPr id="42" name="_s2056"/>
            <p:cNvSpPr/>
            <p:nvPr/>
          </p:nvSpPr>
          <p:spPr>
            <a:xfrm>
              <a:off x="3076200" y="607680"/>
              <a:ext cx="3207600" cy="2507040"/>
            </a:xfrm>
            <a:custGeom>
              <a:avLst/>
              <a:gdLst>
                <a:gd name="textAreaLeft" fmla="*/ 0 w 3207600"/>
                <a:gd name="textAreaRight" fmla="*/ 3207960 w 3207600"/>
                <a:gd name="textAreaTop" fmla="*/ 0 h 2507040"/>
                <a:gd name="textAreaBottom" fmla="*/ 2507400 h 250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70"/>
            <p:cNvSpPr/>
            <p:nvPr/>
          </p:nvSpPr>
          <p:spPr>
            <a:xfrm rot="3060000">
              <a:off x="5018400" y="857160"/>
              <a:ext cx="2507040" cy="3208320"/>
            </a:xfrm>
            <a:custGeom>
              <a:avLst/>
              <a:gdLst>
                <a:gd name="textAreaLeft" fmla="*/ 0 w 2507040"/>
                <a:gd name="textAreaRight" fmla="*/ 2507400 w 2507040"/>
                <a:gd name="textAreaTop" fmla="*/ 0 h 3208320"/>
                <a:gd name="textAreaBottom" fmla="*/ 3208680 h 320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72"/>
            <p:cNvSpPr/>
            <p:nvPr/>
          </p:nvSpPr>
          <p:spPr>
            <a:xfrm rot="6180000">
              <a:off x="5413320" y="2204640"/>
              <a:ext cx="2507760" cy="3208320"/>
            </a:xfrm>
            <a:custGeom>
              <a:avLst/>
              <a:gdLst>
                <a:gd name="textAreaLeft" fmla="*/ 0 w 2507760"/>
                <a:gd name="textAreaRight" fmla="*/ 2508120 w 2507760"/>
                <a:gd name="textAreaTop" fmla="*/ 0 h 3208320"/>
                <a:gd name="textAreaBottom" fmla="*/ 3208680 h 320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74"/>
            <p:cNvSpPr/>
            <p:nvPr/>
          </p:nvSpPr>
          <p:spPr>
            <a:xfrm rot="9240000">
              <a:off x="3960720" y="3637440"/>
              <a:ext cx="3207600" cy="2507760"/>
            </a:xfrm>
            <a:custGeom>
              <a:avLst/>
              <a:gdLst>
                <a:gd name="textAreaLeft" fmla="*/ 0 w 3207600"/>
                <a:gd name="textAreaRight" fmla="*/ 3207960 w 3207600"/>
                <a:gd name="textAreaTop" fmla="*/ 0 h 2507760"/>
                <a:gd name="textAreaBottom" fmla="*/ 2508120 h 250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76"/>
            <p:cNvSpPr/>
            <p:nvPr/>
          </p:nvSpPr>
          <p:spPr>
            <a:xfrm rot="12360000">
              <a:off x="2190960" y="3637080"/>
              <a:ext cx="3207600" cy="2507760"/>
            </a:xfrm>
            <a:custGeom>
              <a:avLst/>
              <a:gdLst>
                <a:gd name="textAreaLeft" fmla="*/ 0 w 3207600"/>
                <a:gd name="textAreaRight" fmla="*/ 3207960 w 3207600"/>
                <a:gd name="textAreaTop" fmla="*/ 0 h 2507760"/>
                <a:gd name="textAreaBottom" fmla="*/ 2508120 h 250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57"/>
            <p:cNvSpPr/>
            <p:nvPr/>
          </p:nvSpPr>
          <p:spPr>
            <a:xfrm rot="15420000">
              <a:off x="1438200" y="2206440"/>
              <a:ext cx="2507040" cy="3208320"/>
            </a:xfrm>
            <a:custGeom>
              <a:avLst/>
              <a:gdLst>
                <a:gd name="textAreaLeft" fmla="*/ 0 w 2507040"/>
                <a:gd name="textAreaRight" fmla="*/ 2507400 w 2507040"/>
                <a:gd name="textAreaTop" fmla="*/ 0 h 3208320"/>
                <a:gd name="textAreaBottom" fmla="*/ 3208680 h 320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59"/>
            <p:cNvSpPr/>
            <p:nvPr/>
          </p:nvSpPr>
          <p:spPr>
            <a:xfrm rot="18540000">
              <a:off x="1831320" y="857160"/>
              <a:ext cx="2507040" cy="3207600"/>
            </a:xfrm>
            <a:custGeom>
              <a:avLst/>
              <a:gdLst>
                <a:gd name="textAreaLeft" fmla="*/ 0 w 2507040"/>
                <a:gd name="textAreaRight" fmla="*/ 2507400 w 2507040"/>
                <a:gd name="textAreaTop" fmla="*/ 0 h 3207600"/>
                <a:gd name="textAreaBottom" fmla="*/ 3207960 h 32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054"/>
            <p:cNvSpPr/>
            <p:nvPr/>
          </p:nvSpPr>
          <p:spPr>
            <a:xfrm>
              <a:off x="5519880" y="581760"/>
              <a:ext cx="1255680" cy="9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lmacenami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55"/>
            <p:cNvSpPr/>
            <p:nvPr/>
          </p:nvSpPr>
          <p:spPr>
            <a:xfrm>
              <a:off x="758160" y="2376720"/>
              <a:ext cx="1256400" cy="9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imin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2058"/>
            <p:cNvSpPr/>
            <p:nvPr/>
          </p:nvSpPr>
          <p:spPr>
            <a:xfrm>
              <a:off x="2587320" y="584280"/>
              <a:ext cx="1256400" cy="98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gregació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 recogi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069"/>
            <p:cNvSpPr/>
            <p:nvPr/>
          </p:nvSpPr>
          <p:spPr>
            <a:xfrm>
              <a:off x="7351560" y="2374560"/>
              <a:ext cx="1256400" cy="98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071"/>
            <p:cNvSpPr/>
            <p:nvPr/>
          </p:nvSpPr>
          <p:spPr>
            <a:xfrm>
              <a:off x="6698160" y="4610520"/>
              <a:ext cx="1255680" cy="98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tami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2073"/>
            <p:cNvSpPr/>
            <p:nvPr/>
          </p:nvSpPr>
          <p:spPr>
            <a:xfrm>
              <a:off x="4056480" y="5606280"/>
              <a:ext cx="1255680" cy="98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cuper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075"/>
            <p:cNvSpPr/>
            <p:nvPr/>
          </p:nvSpPr>
          <p:spPr>
            <a:xfrm>
              <a:off x="1411560" y="4612680"/>
              <a:ext cx="1256400" cy="9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Valoriz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503160" y="3059280"/>
            <a:ext cx="2261160" cy="1068840"/>
          </a:xfrm>
          <a:prstGeom prst="rect">
            <a:avLst/>
          </a:prstGeom>
          <a:solidFill>
            <a:srgbClr val="3366ff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ST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10:58:02Z</dcterms:created>
  <dc:creator>ABC</dc:creator>
  <dc:description/>
  <dc:language>en-US</dc:language>
  <cp:lastModifiedBy>Francesc</cp:lastModifiedBy>
  <dcterms:modified xsi:type="dcterms:W3CDTF">2012-02-25T19:04:59Z</dcterms:modified>
  <cp:revision>2</cp:revision>
  <dc:subject/>
  <dc:title>Diapositiva 1</dc:title>
</cp:coreProperties>
</file>