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E01E-5E63-4EC1-A8D8-3BDE8F83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6A6F-EA96-422B-A250-91D898A5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1693-8FF4-4499-A611-10BAB771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93B2-FA3D-4175-A276-3E4927C3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F94-0535-4E59-8268-FBF7C09A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6AE0-4A2F-4365-B52F-CFF193E9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094-5F70-43F4-89E7-F1BBAF83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AC45-813A-4C96-93C3-6954F1C2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13C0-1D82-4F83-A4D1-374C3C95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76B-2072-4F52-8F1B-CA8B487B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53E8-5921-49F4-8328-378D815F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FDB4-EAEB-400E-86F6-0A539B24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717BE0-BEAB-437F-AE76-D3557CF4A911}" type="slidenum"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22160" y="408600"/>
            <a:ext cx="7848360" cy="6422760"/>
            <a:chOff x="722160" y="408600"/>
            <a:chExt cx="7848360" cy="6422760"/>
          </a:xfrm>
        </p:grpSpPr>
        <p:sp>
          <p:nvSpPr>
            <p:cNvPr id="42" name=""/>
            <p:cNvSpPr/>
            <p:nvPr/>
          </p:nvSpPr>
          <p:spPr>
            <a:xfrm>
              <a:off x="2932560" y="505440"/>
              <a:ext cx="3206880" cy="2603520"/>
            </a:xfrm>
            <a:custGeom>
              <a:avLst/>
              <a:gdLst>
                <a:gd name="textAreaLeft" fmla="*/ 0 w 3206880"/>
                <a:gd name="textAreaRight" fmla="*/ 3207240 w 3206880"/>
                <a:gd name="textAreaTop" fmla="*/ 0 h 2603520"/>
                <a:gd name="textAreaBottom" fmla="*/ 2603880 h 260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rot="3060000">
              <a:off x="4935600" y="825840"/>
              <a:ext cx="2603880" cy="3207240"/>
            </a:xfrm>
            <a:custGeom>
              <a:avLst/>
              <a:gdLst>
                <a:gd name="textAreaLeft" fmla="*/ 0 w 2603880"/>
                <a:gd name="textAreaRight" fmla="*/ 2604240 w 2603880"/>
                <a:gd name="textAreaTop" fmla="*/ 0 h 3207240"/>
                <a:gd name="textAreaBottom" fmla="*/ 3207600 h 320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6180000">
              <a:off x="5331960" y="2229480"/>
              <a:ext cx="2605320" cy="3207240"/>
            </a:xfrm>
            <a:custGeom>
              <a:avLst/>
              <a:gdLst>
                <a:gd name="textAreaLeft" fmla="*/ 0 w 2605320"/>
                <a:gd name="textAreaRight" fmla="*/ 2605680 w 2605320"/>
                <a:gd name="textAreaTop" fmla="*/ 0 h 3207240"/>
                <a:gd name="textAreaBottom" fmla="*/ 3207600 h 320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9240000">
              <a:off x="4177800" y="3578760"/>
              <a:ext cx="3207240" cy="2605320"/>
            </a:xfrm>
            <a:custGeom>
              <a:avLst/>
              <a:gdLst>
                <a:gd name="textAreaLeft" fmla="*/ 0 w 3207240"/>
                <a:gd name="textAreaRight" fmla="*/ 3207600 w 3207240"/>
                <a:gd name="textAreaTop" fmla="*/ 0 h 2605320"/>
                <a:gd name="textAreaBottom" fmla="*/ 2605680 h 260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2360000">
              <a:off x="2157480" y="3654720"/>
              <a:ext cx="3206880" cy="2605320"/>
            </a:xfrm>
            <a:custGeom>
              <a:avLst/>
              <a:gdLst>
                <a:gd name="textAreaLeft" fmla="*/ 0 w 3206880"/>
                <a:gd name="textAreaRight" fmla="*/ 3207240 w 3206880"/>
                <a:gd name="textAreaTop" fmla="*/ 0 h 2605320"/>
                <a:gd name="textAreaBottom" fmla="*/ 2605680 h 260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5420000">
              <a:off x="1352520" y="2233080"/>
              <a:ext cx="2603520" cy="3207240"/>
            </a:xfrm>
            <a:custGeom>
              <a:avLst/>
              <a:gdLst>
                <a:gd name="textAreaLeft" fmla="*/ 0 w 2603520"/>
                <a:gd name="textAreaRight" fmla="*/ 2603880 w 2603520"/>
                <a:gd name="textAreaTop" fmla="*/ 0 h 3207240"/>
                <a:gd name="textAreaBottom" fmla="*/ 3207600 h 320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540000">
              <a:off x="1709640" y="941040"/>
              <a:ext cx="2603880" cy="3207240"/>
            </a:xfrm>
            <a:custGeom>
              <a:avLst/>
              <a:gdLst>
                <a:gd name="textAreaLeft" fmla="*/ 0 w 2603880"/>
                <a:gd name="textAreaRight" fmla="*/ 2604240 w 2603880"/>
                <a:gd name="textAreaTop" fmla="*/ 0 h 3207240"/>
                <a:gd name="textAreaBottom" fmla="*/ 3207600 h 320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483880" y="477720"/>
              <a:ext cx="125424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0084d1"/>
                  </a:solidFill>
                  <a:latin typeface="Helvetica-CondensedBlack"/>
                </a:rPr>
                <a:t>Almacenami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22160" y="2343600"/>
              <a:ext cx="125424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0084d1"/>
                  </a:solidFill>
                  <a:latin typeface="Helvetica-CondensedBlack"/>
                </a:rPr>
                <a:t>Elimin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50960" y="480960"/>
              <a:ext cx="1254240" cy="10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0084d1"/>
                  </a:solidFill>
                  <a:latin typeface="Helvetica-CondensedBlack"/>
                </a:rPr>
                <a:t>Segregació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0084d1"/>
                  </a:solidFill>
                  <a:latin typeface="Helvetica-CondensedBlack"/>
                </a:rPr>
                <a:t>y recogi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316280" y="2342160"/>
              <a:ext cx="1254240" cy="10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0084d1"/>
                  </a:solidFill>
                  <a:latin typeface="Helvetica-CondensedBlack"/>
                </a:rPr>
                <a:t>Transpor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63960" y="4665240"/>
              <a:ext cx="1253880" cy="10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0084d1"/>
                  </a:solidFill>
                  <a:latin typeface="Helvetica-CondensedBlack"/>
                </a:rPr>
                <a:t>Tratami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21560" y="5701320"/>
              <a:ext cx="1254240" cy="10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0084d1"/>
                  </a:solidFill>
                  <a:latin typeface="Helvetica-CondensedBlack"/>
                </a:rPr>
                <a:t>Recuper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74840" y="4668840"/>
              <a:ext cx="125424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0084d1"/>
                  </a:solidFill>
                  <a:latin typeface="Helvetica-CondensedBlack"/>
                </a:rPr>
                <a:t>Valoriz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530880" y="3059280"/>
            <a:ext cx="2207520" cy="1068840"/>
          </a:xfrm>
          <a:prstGeom prst="rect">
            <a:avLst/>
          </a:prstGeom>
          <a:solidFill>
            <a:srgbClr val="3366ff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Helvetica-CondensedBlack"/>
              </a:rPr>
              <a:t>GES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Helvetica-CondensedBlack"/>
              </a:rPr>
              <a:t>INTEG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10:58:02Z</dcterms:created>
  <dc:creator>ABC</dc:creator>
  <dc:description/>
  <dc:language>en-US</dc:language>
  <cp:lastModifiedBy>Francesc</cp:lastModifiedBy>
  <dcterms:modified xsi:type="dcterms:W3CDTF">2012-02-25T19:04:59Z</dcterms:modified>
  <cp:revision>2</cp:revision>
  <dc:subject/>
  <dc:title>Diapositiva 1</dc:title>
</cp:coreProperties>
</file>