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7FD-6206-4F65-9E49-3ADEC86C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3CA-04BE-4E8F-804A-D7625E64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B7C-CF12-4354-9D55-0124B31C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A66-AE37-40B2-9B5F-78F646D0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579-F0FB-474C-8B08-675ECAF0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904-F038-4162-9112-306584E8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1CD-3AB3-4196-A02C-99C9A185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2A0-9E52-4F3A-A621-0A0227F4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F55-78A9-489F-8838-F9BCDA4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B5F-22BD-4193-86D3-F5FEA34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1B4-98D3-4652-9B5D-3240009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837-BAB3-4C79-9BF3-933EE5E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084-A24F-4343-91A0-48A5CC7812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91520" cy="1397160"/>
          </a:xfrm>
          <a:prstGeom prst="rect">
            <a:avLst/>
          </a:prstGeom>
          <a:solidFill>
            <a:srgbClr val="00ccff"/>
          </a:solidFill>
          <a:ln w="7632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Actuación en caso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mergencia sanita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594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Los Primeros Auxilios </a:t>
            </a:r>
            <a:br>
              <a:rPr sz="6600"/>
            </a:b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n atención bucodental</a:t>
            </a: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2218320" y="458280"/>
            <a:ext cx="46933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rimeros Auxilios en atención bucod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159200" y="2313000"/>
            <a:ext cx="1451880" cy="58068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fes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4280" y="4741560"/>
            <a:ext cx="3052080" cy="106740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plicar técnicas sanitar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responder a situa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mergenc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76720" y="2488680"/>
            <a:ext cx="2571480" cy="106740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idados inmediatos, provis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tes de la asistencia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502440" y="4819320"/>
            <a:ext cx="2419560" cy="33732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tocolo de act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227640" y="2633760"/>
            <a:ext cx="2232000" cy="58068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titud de seguridad  y 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6443640" y="5102280"/>
            <a:ext cx="2232000" cy="58068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onsabilidad y ética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263240" y="1362240"/>
            <a:ext cx="11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rman par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1113840" y="371628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el objetiv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end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032000" y="1557360"/>
            <a:ext cx="91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def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138920" y="400536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ap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gu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993480" y="54450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nte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3851280" y="5791680"/>
            <a:ext cx="1584360" cy="824040"/>
          </a:xfrm>
          <a:prstGeom prst="rect">
            <a:avLst/>
          </a:prstGeom>
          <a:solidFill>
            <a:srgbClr val="00ccff">
              <a:alpha val="47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vis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or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802920" y="162864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necesar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21"/>
          <p:cNvCxnSpPr/>
          <p:nvPr/>
        </p:nvCxnSpPr>
        <p:spPr>
          <a:xfrm rot="5400000">
            <a:off x="2956680" y="-260280"/>
            <a:ext cx="573840" cy="2672640"/>
          </a:xfrm>
          <a:prstGeom prst="bentConnector3">
            <a:avLst>
              <a:gd name="adj1" fmla="val 48713"/>
            </a:avLst>
          </a:prstGeom>
          <a:ln w="50760">
            <a:solidFill>
              <a:srgbClr val="0000ff"/>
            </a:solidFill>
            <a:miter/>
          </a:ln>
        </p:spPr>
      </p:cxnSp>
      <p:sp>
        <p:nvSpPr>
          <p:cNvPr id="58" name="Text Box 22"/>
          <p:cNvSpPr/>
          <p:nvPr/>
        </p:nvSpPr>
        <p:spPr>
          <a:xfrm>
            <a:off x="6781680" y="402588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ociendo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1908000" y="1989000"/>
            <a:ext cx="0" cy="216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1908000" y="3068640"/>
            <a:ext cx="0" cy="647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1908000" y="4292640"/>
            <a:ext cx="0" cy="36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4572000" y="981000"/>
            <a:ext cx="0" cy="505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4572000" y="2060640"/>
            <a:ext cx="0" cy="28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4645080" y="3571920"/>
            <a:ext cx="0" cy="288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4645080" y="4581360"/>
            <a:ext cx="0" cy="142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4645080" y="5229360"/>
            <a:ext cx="0" cy="215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7380360" y="1052640"/>
            <a:ext cx="0" cy="36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7380360" y="2205000"/>
            <a:ext cx="0" cy="216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7451640" y="3357720"/>
            <a:ext cx="0" cy="576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 flipV="1">
            <a:off x="7451640" y="4365360"/>
            <a:ext cx="0" cy="647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37"/>
          <p:cNvCxnSpPr/>
          <p:nvPr/>
        </p:nvCxnSpPr>
        <p:spPr>
          <a:xfrm flipH="1" rot="16200000">
            <a:off x="5851440" y="-490680"/>
            <a:ext cx="264240" cy="2823120"/>
          </a:xfrm>
          <a:prstGeom prst="bentConnector2">
            <a:avLst/>
          </a:prstGeom>
          <a:ln w="507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88840" y="1744200"/>
            <a:ext cx="7428240" cy="4421160"/>
          </a:xfrm>
          <a:prstGeom prst="rect">
            <a:avLst/>
          </a:prstGeom>
          <a:solidFill>
            <a:srgbClr val="0000ff"/>
          </a:solidFill>
          <a:ln w="8892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ctivación P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cadena de supervivencia. R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tención inicial en lesiones por agentes químicos y biol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tención inicial en lesiones por agentes fí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meros auxilios psicol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ctuación en una emergencia sanita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326680" y="416520"/>
            <a:ext cx="4185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ción en una emergencia sani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900000" y="2138400"/>
            <a:ext cx="1800360" cy="73332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ger inform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posibles 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987200" y="5811840"/>
            <a:ext cx="2441880" cy="58068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tección de la z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toprotección per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32000" y="2066400"/>
            <a:ext cx="2592360" cy="85536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identes de trá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identes de o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identes domést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identes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identes deportivo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084720" y="2354400"/>
            <a:ext cx="2232360" cy="52020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junto de recursos materiales y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80000" y="5279040"/>
            <a:ext cx="3168720" cy="1312920"/>
          </a:xfrm>
          <a:prstGeom prst="rect">
            <a:avLst/>
          </a:prstGeom>
          <a:solidFill>
            <a:srgbClr val="ffffff">
              <a:alpha val="47000"/>
            </a:srgbClr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llamar al 11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18240" y="1339920"/>
            <a:ext cx="12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u finalidad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124000" y="4724280"/>
            <a:ext cx="213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segurar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al socor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a la víctim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419640" y="14130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alizar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tipo de acci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3492360" y="3720960"/>
            <a:ext cx="1943280" cy="73332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lorar los riesgos específicos de cada tipo de accid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227640" y="1484280"/>
            <a:ext cx="21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Sistemas de Emergencias 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3"/>
          <p:cNvCxnSpPr>
            <a:stCxn id="74" idx="2"/>
            <a:endCxn id="80" idx="0"/>
          </p:cNvCxnSpPr>
          <p:nvPr/>
        </p:nvCxnSpPr>
        <p:spPr>
          <a:xfrm rot="5400000">
            <a:off x="2864160" y="-215280"/>
            <a:ext cx="531000" cy="2580480"/>
          </a:xfrm>
          <a:prstGeom prst="bentConnector3">
            <a:avLst>
              <a:gd name="adj1" fmla="val 48439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86" name="Text Box 14"/>
          <p:cNvSpPr/>
          <p:nvPr/>
        </p:nvSpPr>
        <p:spPr>
          <a:xfrm>
            <a:off x="6295680" y="3500280"/>
            <a:ext cx="205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stionan llamada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rgencias subje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1835280" y="162864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27640" y="98100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4427640" y="1916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4427640" y="2924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442764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236000" y="1052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7236000" y="1989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7236000" y="292428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7236000" y="486900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AutoShape 24"/>
          <p:cNvCxnSpPr>
            <a:stCxn id="74" idx="2"/>
          </p:cNvCxnSpPr>
          <p:nvPr/>
        </p:nvCxnSpPr>
        <p:spPr>
          <a:xfrm flipH="1" rot="16200000">
            <a:off x="5699160" y="-470160"/>
            <a:ext cx="264240" cy="28231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97" name="Text Box 25"/>
          <p:cNvSpPr/>
          <p:nvPr/>
        </p:nvSpPr>
        <p:spPr>
          <a:xfrm>
            <a:off x="3996000" y="328464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er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84360" y="3866040"/>
            <a:ext cx="2303280" cy="58140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spección visual del entor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1402920" y="321300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183528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9"/>
          <p:cNvSpPr/>
          <p:nvPr/>
        </p:nvSpPr>
        <p:spPr>
          <a:xfrm>
            <a:off x="1835280" y="35002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30"/>
          <p:cNvCxnSpPr>
            <a:stCxn id="98" idx="2"/>
            <a:endCxn id="81" idx="1"/>
          </p:cNvCxnSpPr>
          <p:nvPr/>
        </p:nvCxnSpPr>
        <p:spPr>
          <a:xfrm flipH="1" rot="16200000">
            <a:off x="1645920" y="4642920"/>
            <a:ext cx="669240" cy="28800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03" name="AutoShape 31"/>
          <p:cNvCxnSpPr>
            <a:stCxn id="83" idx="2"/>
            <a:endCxn id="81" idx="3"/>
          </p:cNvCxnSpPr>
          <p:nvPr/>
        </p:nvCxnSpPr>
        <p:spPr>
          <a:xfrm rot="5400000">
            <a:off x="4030920" y="4688640"/>
            <a:ext cx="662760" cy="20376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04" name="Line 32"/>
          <p:cNvSpPr/>
          <p:nvPr/>
        </p:nvSpPr>
        <p:spPr>
          <a:xfrm>
            <a:off x="3203640" y="5516640"/>
            <a:ext cx="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6227640" y="4370760"/>
            <a:ext cx="2232000" cy="520200"/>
          </a:xfrm>
          <a:prstGeom prst="rect">
            <a:avLst/>
          </a:prstGeom>
          <a:solidFill>
            <a:srgbClr val="bbe0e3">
              <a:alpha val="47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vilizan recursos materiales y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7236000" y="4005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>
            <a:off x="4500720" y="6093000"/>
            <a:ext cx="86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6840720" cy="6120000"/>
          </a:xfrm>
          <a:prstGeom prst="rect">
            <a:avLst/>
          </a:prstGeom>
          <a:solidFill>
            <a:srgbClr val="ffff99">
              <a:alpha val="58000"/>
            </a:srgbClr>
          </a:solidFill>
          <a:ln w="28440">
            <a:solidFill>
              <a:srgbClr val="0000ff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TEGER es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mprobar la existencia de riesgos en torno al a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ealizar las acciones que permitan mantener fuera de ries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 Al acciden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 A las personas que ayu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VISAR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isar a los servicios sanitarios lo más rápidamente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acer una composición rápida del lugar para dar la mayor cantidad de dato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 dejar sólo al accidentado a no ser que sea absolutamente neces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CORRER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guir unas pautas básicas para conservar la vida del accidentado y no empeorar su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7236000" y="836640"/>
            <a:ext cx="1439640" cy="1366920"/>
          </a:xfrm>
          <a:prstGeom prst="ellipse">
            <a:avLst/>
          </a:prstGeom>
          <a:solidFill>
            <a:srgbClr val="0000ff">
              <a:alpha val="53000"/>
            </a:srgbClr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7236000" y="2709720"/>
            <a:ext cx="1439640" cy="1366920"/>
          </a:xfrm>
          <a:prstGeom prst="ellipse">
            <a:avLst/>
          </a:prstGeom>
          <a:solidFill>
            <a:srgbClr val="0000ff">
              <a:alpha val="53000"/>
            </a:srgbClr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7308720" y="4438800"/>
            <a:ext cx="1440000" cy="1366560"/>
          </a:xfrm>
          <a:prstGeom prst="ellipse">
            <a:avLst/>
          </a:prstGeom>
          <a:solidFill>
            <a:srgbClr val="0000ff">
              <a:alpha val="53000"/>
            </a:srgbClr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2276640"/>
            <a:ext cx="216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conocer una par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diorespiratori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ctivar el 061/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148360" y="2492280"/>
            <a:ext cx="230328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. Desfibrilación ex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miautomática D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859280" y="5805360"/>
            <a:ext cx="401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rganization Chart 5"/>
          <p:cNvGrpSpPr/>
          <p:nvPr/>
        </p:nvGrpSpPr>
        <p:grpSpPr>
          <a:xfrm>
            <a:off x="395280" y="3721680"/>
            <a:ext cx="6479640" cy="2981880"/>
            <a:chOff x="395280" y="3721680"/>
            <a:chExt cx="6479640" cy="2981880"/>
          </a:xfrm>
        </p:grpSpPr>
        <p:cxnSp>
          <p:nvCxnSpPr>
            <p:cNvPr id="116" name="_s1028"/>
            <p:cNvCxnSpPr>
              <a:stCxn id="117" idx="1"/>
              <a:endCxn id="118" idx="2"/>
            </p:cNvCxnSpPr>
            <p:nvPr/>
          </p:nvCxnSpPr>
          <p:spPr>
            <a:xfrm rot="10800000">
              <a:off x="4423680" y="5424480"/>
              <a:ext cx="342720" cy="42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3"/>
              <a:endCxn id="118" idx="2"/>
            </p:cNvCxnSpPr>
            <p:nvPr/>
          </p:nvCxnSpPr>
          <p:spPr>
            <a:xfrm flipV="1">
              <a:off x="4066560" y="5424480"/>
              <a:ext cx="358560" cy="42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0"/>
            <p:cNvCxnSpPr>
              <a:stCxn id="122" idx="1"/>
              <a:endCxn id="118" idx="2"/>
            </p:cNvCxnSpPr>
            <p:nvPr/>
          </p:nvCxnSpPr>
          <p:spPr>
            <a:xfrm rot="10800000">
              <a:off x="4423680" y="5424480"/>
              <a:ext cx="350640" cy="106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1"/>
            <p:cNvCxnSpPr>
              <a:stCxn id="118" idx="0"/>
              <a:endCxn id="124" idx="2"/>
            </p:cNvCxnSpPr>
            <p:nvPr/>
          </p:nvCxnSpPr>
          <p:spPr>
            <a:xfrm flipV="1" rot="16200000">
              <a:off x="4052520" y="4627440"/>
              <a:ext cx="215280" cy="52812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2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2824560" y="3927240"/>
              <a:ext cx="215280" cy="192888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33"/>
            <p:cNvCxnSpPr>
              <a:stCxn id="124" idx="0"/>
              <a:endCxn id="128" idx="2"/>
            </p:cNvCxnSpPr>
            <p:nvPr/>
          </p:nvCxnSpPr>
          <p:spPr>
            <a:xfrm flipV="1" rot="16200000">
              <a:off x="3659400" y="4122000"/>
              <a:ext cx="213480" cy="26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4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2433960" y="3156840"/>
              <a:ext cx="213480" cy="2191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1035"/>
            <p:cNvSpPr/>
            <p:nvPr/>
          </p:nvSpPr>
          <p:spPr>
            <a:xfrm>
              <a:off x="2585880" y="3721680"/>
              <a:ext cx="2098080" cy="42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antizar la segur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l reanimador y de la víctim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6"/>
            <p:cNvSpPr/>
            <p:nvPr/>
          </p:nvSpPr>
          <p:spPr>
            <a:xfrm>
              <a:off x="395280" y="4359600"/>
              <a:ext cx="210060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rir la vía aérea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7"/>
            <p:cNvSpPr/>
            <p:nvPr/>
          </p:nvSpPr>
          <p:spPr>
            <a:xfrm>
              <a:off x="2846160" y="4359600"/>
              <a:ext cx="210060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alizar si respira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8"/>
            <p:cNvSpPr/>
            <p:nvPr/>
          </p:nvSpPr>
          <p:spPr>
            <a:xfrm>
              <a:off x="918000" y="4998960"/>
              <a:ext cx="210060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spira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sición lateral segurida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3373920" y="4998960"/>
              <a:ext cx="210060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respira        Avisa al 11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ore signos circul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40"/>
            <p:cNvSpPr/>
            <p:nvPr/>
          </p:nvSpPr>
          <p:spPr>
            <a:xfrm>
              <a:off x="4774320" y="6277680"/>
              <a:ext cx="210060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 respirac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 compresion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1968120" y="5638320"/>
              <a:ext cx="209808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dul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 compresiones torácic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2"/>
            <p:cNvSpPr/>
            <p:nvPr/>
          </p:nvSpPr>
          <p:spPr>
            <a:xfrm>
              <a:off x="4766760" y="5638320"/>
              <a:ext cx="2098440" cy="425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iñ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respiraciones de resc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2"/>
          <p:cNvSpPr/>
          <p:nvPr/>
        </p:nvSpPr>
        <p:spPr>
          <a:xfrm>
            <a:off x="539640" y="3284640"/>
            <a:ext cx="1511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ciente incons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resp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076720" y="3573360"/>
            <a:ext cx="237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loca los electrodos en el p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gue las instrucciones del D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92640" y="1341360"/>
            <a:ext cx="1081440" cy="368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Al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372360" y="4437000"/>
            <a:ext cx="262728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. Reanimación Cardiopulmonar avanzada por personal especi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2556000" y="1413000"/>
            <a:ext cx="268416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Reanimación cardiopulm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R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1187280" y="404640"/>
            <a:ext cx="5832720" cy="398880"/>
          </a:xfrm>
          <a:prstGeom prst="rect">
            <a:avLst/>
          </a:prstGeom>
          <a:solidFill>
            <a:srgbClr val="cc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adena de superviv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28"/>
          <p:cNvCxnSpPr/>
          <p:nvPr/>
        </p:nvCxnSpPr>
        <p:spPr>
          <a:xfrm rot="5400000">
            <a:off x="2519280" y="-424440"/>
            <a:ext cx="348480" cy="2870640"/>
          </a:xfrm>
          <a:prstGeom prst="bentConnector3">
            <a:avLst>
              <a:gd name="adj1" fmla="val 474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29"/>
          <p:cNvCxnSpPr>
            <a:stCxn id="133" idx="3"/>
            <a:endCxn id="135" idx="1"/>
          </p:cNvCxnSpPr>
          <p:nvPr/>
        </p:nvCxnSpPr>
        <p:spPr>
          <a:xfrm>
            <a:off x="1782720" y="1531800"/>
            <a:ext cx="774000" cy="20880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0"/>
          <p:cNvCxnSpPr>
            <a:stCxn id="135" idx="3"/>
            <a:endCxn id="113" idx="0"/>
          </p:cNvCxnSpPr>
          <p:nvPr/>
        </p:nvCxnSpPr>
        <p:spPr>
          <a:xfrm>
            <a:off x="5240160" y="1739880"/>
            <a:ext cx="1061280" cy="75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AutoShape 31"/>
          <p:cNvCxnSpPr>
            <a:stCxn id="113" idx="3"/>
            <a:endCxn id="134" idx="0"/>
          </p:cNvCxnSpPr>
          <p:nvPr/>
        </p:nvCxnSpPr>
        <p:spPr>
          <a:xfrm>
            <a:off x="7451280" y="2924280"/>
            <a:ext cx="235800" cy="15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Line 32"/>
          <p:cNvSpPr/>
          <p:nvPr/>
        </p:nvSpPr>
        <p:spPr>
          <a:xfrm>
            <a:off x="118728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118728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AutoShape 34"/>
          <p:cNvCxnSpPr>
            <a:stCxn id="131" idx="3"/>
          </p:cNvCxnSpPr>
          <p:nvPr/>
        </p:nvCxnSpPr>
        <p:spPr>
          <a:xfrm>
            <a:off x="2050560" y="3499920"/>
            <a:ext cx="1585080" cy="221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Line 35"/>
          <p:cNvSpPr/>
          <p:nvPr/>
        </p:nvSpPr>
        <p:spPr>
          <a:xfrm>
            <a:off x="62276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>
            <a:off x="363528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4140360" y="98100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8"/>
          <p:cNvSpPr/>
          <p:nvPr/>
        </p:nvSpPr>
        <p:spPr>
          <a:xfrm>
            <a:off x="7667640" y="98100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9"/>
          <p:cNvSpPr/>
          <p:nvPr/>
        </p:nvSpPr>
        <p:spPr>
          <a:xfrm>
            <a:off x="3635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6300720" y="981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24000" y="4076640"/>
            <a:ext cx="2663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ausea, dolor, falta de respiració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ivación, convulsion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érdida de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859280" y="5805360"/>
            <a:ext cx="401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1484280"/>
            <a:ext cx="3527640" cy="30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oxicaciones y Envenena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651640" y="1484280"/>
            <a:ext cx="3240000" cy="30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aminación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11280" y="333360"/>
            <a:ext cx="7200720" cy="703800"/>
          </a:xfrm>
          <a:prstGeom prst="rect">
            <a:avLst/>
          </a:prstGeom>
          <a:solidFill>
            <a:srgbClr val="cc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inicial en lesiones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s químicos y 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7"/>
          <p:cNvCxnSpPr/>
          <p:nvPr/>
        </p:nvCxnSpPr>
        <p:spPr>
          <a:xfrm rot="5400000">
            <a:off x="2519280" y="-135720"/>
            <a:ext cx="348480" cy="2870640"/>
          </a:xfrm>
          <a:prstGeom prst="bentConnector3">
            <a:avLst>
              <a:gd name="adj1" fmla="val 474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Line 8"/>
          <p:cNvSpPr/>
          <p:nvPr/>
        </p:nvSpPr>
        <p:spPr>
          <a:xfrm>
            <a:off x="169236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50920" y="5373720"/>
            <a:ext cx="2340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Quién?, ¿Qué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Cuánto?, ¿Cómo? ¿Cuándo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calización y teléfono de contac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primeros auxilios aplicad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víctima ha vomit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15720" y="378936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ingestión se reconoce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18240" y="508464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valuar y avisar al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042920" y="2565360"/>
            <a:ext cx="1871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es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ir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en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892800" y="220500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vias de entrada 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3488760" y="220500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ción San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132000" y="2565360"/>
            <a:ext cx="2951280" cy="11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luir el veneno si se desconoce o se duda el tipo de veneno inge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ducir vómito si no hay contraindicaciones y si el 112 lo recomi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132000" y="4292640"/>
            <a:ext cx="32403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Ácidos : base débil, magnesia o bicarbonato sód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ses: ácidos como limón o vinag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rminar: aceite de oliva o clara de hue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848400" y="400536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Ácidos y B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059280" y="5589720"/>
            <a:ext cx="3600360" cy="11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vitar que se gol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flojar vestimentas del cu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 introducir objeto entre los di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igila posibilidad de obstrucción en las vías resp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inistra respiración artifici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asladar a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138200" y="530064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 convulsi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6875640" y="206064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usada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6711840" y="2440080"/>
            <a:ext cx="1460520" cy="82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r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rded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icad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6442560" y="342900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6516720" y="3789360"/>
            <a:ext cx="2016000" cy="100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igiene de manos y ali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vitar contagiar a los dem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cudir al mé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82692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>
            <a:off x="250920" y="177336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948360" y="5445000"/>
            <a:ext cx="1871640" cy="641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lo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licar Técnicas de Soporte v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7231680" y="501336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istencia san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28"/>
          <p:cNvCxnSpPr/>
          <p:nvPr/>
        </p:nvCxnSpPr>
        <p:spPr>
          <a:xfrm flipH="1" rot="16200000">
            <a:off x="5503680" y="-312120"/>
            <a:ext cx="440280" cy="3169080"/>
          </a:xfrm>
          <a:prstGeom prst="bentConnector3">
            <a:avLst>
              <a:gd name="adj1" fmla="val 47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29"/>
          <p:cNvCxnSpPr>
            <a:stCxn id="152" idx="2"/>
            <a:endCxn id="162" idx="0"/>
          </p:cNvCxnSpPr>
          <p:nvPr/>
        </p:nvCxnSpPr>
        <p:spPr>
          <a:xfrm flipH="1" rot="16200000">
            <a:off x="2944080" y="799920"/>
            <a:ext cx="403920" cy="240732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Line 30"/>
          <p:cNvSpPr/>
          <p:nvPr/>
        </p:nvSpPr>
        <p:spPr>
          <a:xfrm>
            <a:off x="450072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57200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752472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6516720" y="184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>
            <a:off x="8748720" y="1844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95280" y="62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95280" y="62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050920" y="6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4284720" y="62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6659640" y="62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8317080" y="62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2520" y="1197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umat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86880" y="21337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rpos extr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2989440" y="12682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idas y cont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5653800" y="213372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morragias. Sh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733440" y="126828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siones por 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50920" y="1628640"/>
            <a:ext cx="0" cy="324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8459640" y="2133720"/>
            <a:ext cx="0" cy="27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4284720" y="1700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468360" y="3573360"/>
            <a:ext cx="3382920" cy="86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jo: lavar, extraer con un pañue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ído: colocar la cabeza de 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ariz: tapar fosa nasal libre y s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154764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1042920" y="260280"/>
            <a:ext cx="66960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tención inicial en lesiones por agentes fí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617920" y="2492280"/>
            <a:ext cx="3376440" cy="824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hibir la hemorra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var la herida, aplicar antiséptic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brir la he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79280" y="5013360"/>
            <a:ext cx="4032360" cy="119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r la movi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movilizar la zo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sladar a centro asist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ctura abierta, cohibir hemorra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408920" y="3500280"/>
            <a:ext cx="3815640" cy="1067400"/>
          </a:xfrm>
          <a:prstGeom prst="rect">
            <a:avLst/>
          </a:prstGeom>
          <a:solidFill>
            <a:srgbClr val="ff99cc"/>
          </a:solidFill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ión directa sobre la he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evación del miembro afec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ión sobre el tronco arterial princip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morragia importante 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5724360" y="4869000"/>
            <a:ext cx="3240360" cy="1191240"/>
          </a:xfrm>
          <a:prstGeom prst="rect">
            <a:avLst/>
          </a:prstGeom>
          <a:solidFill>
            <a:srgbClr val="99ccff"/>
          </a:solidFill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ríe el área quem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var con agua cor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ar la cor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ar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859280" y="5805360"/>
            <a:ext cx="401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50920" y="2708280"/>
            <a:ext cx="158436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cción de 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084720" y="2276640"/>
            <a:ext cx="18003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03640" y="2492280"/>
            <a:ext cx="201600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oyo psic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87280" y="692280"/>
            <a:ext cx="5832720" cy="398880"/>
          </a:xfrm>
          <a:prstGeom prst="rect">
            <a:avLst/>
          </a:prstGeom>
          <a:solidFill>
            <a:srgbClr val="cc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MEROS AUXILIOS PSIC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86120" y="4724280"/>
            <a:ext cx="1911960" cy="52020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TUACIÓN CR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S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283560" y="3789360"/>
            <a:ext cx="1886040" cy="82404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écnica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emo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946480" y="3573360"/>
            <a:ext cx="2140560" cy="733320"/>
          </a:xfrm>
          <a:prstGeom prst="rect">
            <a:avLst/>
          </a:prstGeom>
          <a:solidFill>
            <a:srgbClr val="ccffcc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ÓMO SE AFR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ÓMO SE MANIF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154280" y="5373720"/>
            <a:ext cx="1369440" cy="307080"/>
          </a:xfrm>
          <a:prstGeom prst="rect">
            <a:avLst/>
          </a:prstGeom>
          <a:solidFill>
            <a:srgbClr val="ffcc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apia 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68360" y="184464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aplicarlos necesitamos cono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492360" y="1916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rven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796000" y="1628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biendo qué son situaciones que gene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6732720" y="4724280"/>
            <a:ext cx="20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trata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écnicas de Interv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5"/>
          <p:cNvCxnSpPr/>
          <p:nvPr/>
        </p:nvCxnSpPr>
        <p:spPr>
          <a:xfrm rot="5400000">
            <a:off x="2249640" y="-82080"/>
            <a:ext cx="564120" cy="3121560"/>
          </a:xfrm>
          <a:prstGeom prst="bentConnector3">
            <a:avLst>
              <a:gd name="adj1" fmla="val 4840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Line 16"/>
          <p:cNvSpPr/>
          <p:nvPr/>
        </p:nvSpPr>
        <p:spPr>
          <a:xfrm>
            <a:off x="971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4067280" y="1484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419640" y="3284640"/>
            <a:ext cx="16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partir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179280" y="4076640"/>
            <a:ext cx="16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6300720" y="29242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conoc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718520" y="5445000"/>
            <a:ext cx="1651320" cy="733320"/>
          </a:xfrm>
          <a:prstGeom prst="rect">
            <a:avLst/>
          </a:prstGeom>
          <a:solidFill>
            <a:srgbClr val="ffcc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ercicio fí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eño y descan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4643280" y="479736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previene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23"/>
          <p:cNvCxnSpPr/>
          <p:nvPr/>
        </p:nvCxnSpPr>
        <p:spPr>
          <a:xfrm flipH="1" rot="16200000">
            <a:off x="5170320" y="92520"/>
            <a:ext cx="492840" cy="2701080"/>
          </a:xfrm>
          <a:prstGeom prst="bentConnector3">
            <a:avLst>
              <a:gd name="adj1" fmla="val 483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Line 24"/>
          <p:cNvSpPr/>
          <p:nvPr/>
        </p:nvSpPr>
        <p:spPr>
          <a:xfrm>
            <a:off x="97164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97164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4067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4140360" y="31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8"/>
          <p:cNvSpPr/>
          <p:nvPr/>
        </p:nvSpPr>
        <p:spPr>
          <a:xfrm>
            <a:off x="4140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9"/>
          <p:cNvSpPr/>
          <p:nvPr/>
        </p:nvSpPr>
        <p:spPr>
          <a:xfrm>
            <a:off x="694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0"/>
          <p:cNvSpPr/>
          <p:nvPr/>
        </p:nvSpPr>
        <p:spPr>
          <a:xfrm>
            <a:off x="694836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1"/>
          <p:cNvSpPr/>
          <p:nvPr/>
        </p:nvSpPr>
        <p:spPr>
          <a:xfrm flipH="1">
            <a:off x="6012000" y="429264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2"/>
          <p:cNvSpPr/>
          <p:nvPr/>
        </p:nvSpPr>
        <p:spPr>
          <a:xfrm>
            <a:off x="7164360" y="4292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3"/>
          <p:cNvSpPr/>
          <p:nvPr/>
        </p:nvSpPr>
        <p:spPr>
          <a:xfrm>
            <a:off x="543564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774072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36:18Z</dcterms:created>
  <dc:creator>admi</dc:creator>
  <dc:description/>
  <dc:language>en-US</dc:language>
  <cp:lastModifiedBy>JBS</cp:lastModifiedBy>
  <dcterms:modified xsi:type="dcterms:W3CDTF">2012-03-10T19:30:44Z</dcterms:modified>
  <cp:revision>20</cp:revision>
  <dc:subject/>
  <dc:title>Diapositiva 1</dc:title>
</cp:coreProperties>
</file>